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EF4-5817-442A-95E1-341DAA74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DB2-1C21-4D07-98FD-F45096C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354-5C74-4D2D-9149-8F380453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89E-4995-43F8-9CE1-6B28A0C4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8EB-12D7-409B-8206-803E98A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308-5C91-4A63-BD9E-65EA8C0E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39A-1FB3-4803-9A6D-06D61C5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D3F-74F4-4B73-B4D5-A89FC703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EF6-3AE1-4563-AFB2-7D5A1376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012-7B5E-40DA-B627-720B1184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AFB-063B-4032-BE74-2C17436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977-9ACD-4B7B-86F1-7BD7588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542D-03DA-4246-B222-7D10D7A0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Juice ITC"/>
              </a:rPr>
              <a:t>Heat It Up!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uice ITC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Arial Narrow"/>
              </a:rPr>
              <a:t>Have you ever wondered why things bounce off of mirrors? I do all the time! That’s why I chose to do this experiment. What effect does mirrors have on temperature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 predict that mirrors will heat up the temperature because the light will bounce off and hit the cup to make it war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i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00 oz.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75 oz.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u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ardboard (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en/Pencil and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elsius Thermo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uice ITC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irst, I will put the cardboard base down and put the 100 oz. cup in the middle of 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Second, I will fill the 100 oz. cup with 75 oz. of water. Then I will adjust the light above the cu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Third, I will measure the temperature every 10 minutes and see how much it rai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ourth, I will turn off the light, but leave it in the same place. Then, I will take out the cup, wait 5 minutes, fill it with new water, then put it under the light, but not turn on the li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ifth, I will set 10 mirrors with putty around the cup and turn on the li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Sixth, I will measure the temperature to see if it has rais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Narrow"/>
              </a:rPr>
              <a:t>Finally, I will record my results and see if the temperature changed at 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Resul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 this experiment, the mirrors did heat up the water. The temperature was much warmer than they were before the mirrors surrounded the c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523880"/>
          <a:ext cx="4267080" cy="5029200"/>
        </p:xfrm>
        <a:graphic>
          <a:graphicData uri="http://schemas.openxmlformats.org/drawingml/2006/table">
            <a:tbl>
              <a:tblPr/>
              <a:tblGrid>
                <a:gridCol w="1671480"/>
                <a:gridCol w="1724040"/>
                <a:gridCol w="871560"/>
              </a:tblGrid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emperatur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381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Without Mi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With Mi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uice ITC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y hypothesis was correct. I guessed that the mirrors would heat up the water and it ended up making the water very warm. The results actually surprised me. The temperature was higher than I thought it would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Juice ITC"/>
              </a:rPr>
              <a:t>Grap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2920"/>
                    <a:ext cx="914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Juice ITC"/>
              </a:rPr>
              <a:t>Picture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8600" y="1295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048120" y="3733920"/>
            <a:ext cx="2666880" cy="205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019920" y="373392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3:35Z</dcterms:created>
  <dc:creator>USD376</dc:creator>
  <dc:description/>
  <dc:language>en-US</dc:language>
  <cp:lastModifiedBy>USD376</cp:lastModifiedBy>
  <dcterms:modified xsi:type="dcterms:W3CDTF">2010-05-03T20:09:58Z</dcterms:modified>
  <cp:revision>9</cp:revision>
  <dc:subject/>
  <dc:title>Heat It Up!</dc:title>
</cp:coreProperties>
</file>